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4540-9EFF-4DCE-99A7-498468DEB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1) Setting objectives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2) Structuring discussions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3) Setting up the room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4) Creating the proper climate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5) Stimulating participation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6) Guiding the discuss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1) Setting objectives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2) Structuring discussions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3) Setting up the room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4) Creating the proper climate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5) Stimulating participation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6) Guiding the discuss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990000"/>
                </a:solidFill>
                <a:latin typeface="Arial"/>
              </a:rPr>
              <a:t>Traditional Classrooms:</a:t>
            </a:r>
            <a:br>
              <a:rPr sz="8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Why add discussions to lecture situations?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ssist students in improving their learning proc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lets them compare their knowledge with each other</a:t>
            </a:r>
            <a:br>
              <a:rPr sz="7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confront their own assumption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helps them realize there can be more than one correct way to solve proble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990000"/>
                </a:solidFill>
                <a:latin typeface="Arial"/>
              </a:rPr>
              <a:t>Traditional Classrooms:</a:t>
            </a:r>
            <a:br>
              <a:rPr sz="8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Why add discussions to lecture situations?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ssist students in improving their learning proc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lets them compare their knowledge with each other</a:t>
            </a:r>
            <a:br>
              <a:rPr sz="7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confront their own assumption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helps them realize there can be more than one correct way to solve proble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990000"/>
                </a:solidFill>
                <a:latin typeface="Arial"/>
              </a:rPr>
              <a:t>Traditional Classrooms:</a:t>
            </a:r>
            <a:br>
              <a:rPr sz="8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Why add discussions to lecture situations?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ssist students in improving their learning proc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lets them compare their knowledge with each other</a:t>
            </a:r>
            <a:br>
              <a:rPr sz="7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confront their own assumption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helps them realize there can be more than one correct way to solve proble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Researchers 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found students separated quality of instruction from class size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Student comments identified four characteristics of successful professors: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mpetenc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knowledge and experience with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ncern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 in assisting students and improving the learning process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energy level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enthusiasm about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speaking abilit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ing, well-paced presentation of course 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Researchers 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found students separated quality of instruction from class size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Student comments identified four characteristics of successful professors: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mpetenc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knowledge and experience with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ncern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 in assisting students and improving the learning process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energy level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enthusiasm about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speaking abilit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ing, well-paced presentation of course 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Researchers 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found students separated quality of instruction from class size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Student comments identified four characteristics of successful professors: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mpetenc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knowledge and experience with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ncern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 in assisting students and improving the learning process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energy level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enthusiasm about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speaking abilit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ing, well-paced presentation of course 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e the rules of discussion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B3D-5C00-4AAC-BCDA-0CA0E5BE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7DD-A134-4A49-A92C-16EB0171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113-7C89-4631-9026-86F42EDE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A2C-F82D-4EA8-B569-E8928B7A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8C5-3DF6-4306-992A-E8869BF5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0DB-8352-45C7-BAD4-FAA97496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0D60-5D8D-46E7-B8AD-4234F900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CD1-F157-444A-B94F-FC3F3F76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D33-6079-4443-91E6-321F007F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490-1BAF-4063-8A99-A021A6D4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48D-288A-48C7-942B-984F8776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DA5-CFA5-469A-9D3A-A3C2BD3B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6094-2DC1-4FB6-A810-BA365487E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Vietnamese Group Visit</a:t>
            </a:r>
            <a:br>
              <a:rPr sz="40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Promoting Discussion for </a:t>
            </a:r>
            <a:br>
              <a:rPr sz="3600"/>
            </a:b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teractive Learning </a:t>
            </a:r>
            <a:br>
              <a:rPr sz="3600"/>
            </a:br>
            <a:br>
              <a:rPr sz="40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pril 21 &amp; 22, 2008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) Stimulate particip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thought-provoking question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students a few minutes to write down their answers, then present them to the whole clas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on students who might provide an unusual viewpoint; generate many perspectives on one issue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) Guide the discu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ive 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the opportunity to speak; not always the same student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 students’ ideas &amp; ask for comment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positively about students’ contributio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the issues discussed &amp; highlight key point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e discussion become a heated argumen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What can you do if: </a:t>
            </a:r>
            <a:br>
              <a:rPr sz="2800"/>
            </a:br>
            <a:br>
              <a:rPr sz="2800"/>
            </a:b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The whole group is silent &amp; unresponsive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ry these techniques to start discussions:</a:t>
            </a:r>
            <a:br>
              <a:rPr sz="28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Buzz group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Round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Pyramids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84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uzz Groups: 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mall groups of 2, 3, or 4 students discuss a topic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for a short period (5-10 minutes)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990000"/>
                </a:solidFill>
                <a:latin typeface="Arial"/>
              </a:rPr>
              <a:t>What are some topics in your specific area that you could use for student discussions?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990000"/>
                </a:solidFill>
                <a:latin typeface="Arial"/>
              </a:rPr>
              <a:t>Come up with at least one question or problem for students to discuss in a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84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s: </a:t>
            </a:r>
            <a:br>
              <a:rPr sz="32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roup sits in a circle &amp; turn passes round the circle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ach student in the group takes a turn speaking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ach person speaks once before anyone speaks a second time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Balanced pattern of interaction makes it much more likely that individuals will speak again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84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yramid or “snowballing”: </a:t>
            </a:r>
            <a:br>
              <a:rPr sz="3200"/>
            </a:br>
            <a:br>
              <a:rPr sz="2400"/>
            </a:br>
            <a:r>
              <a:rPr b="1" lang="en-CA" sz="2400" spc="-1" strike="noStrike">
                <a:solidFill>
                  <a:srgbClr val="990000"/>
                </a:solidFill>
                <a:latin typeface="Arial"/>
              </a:rPr>
              <a:t>Students will share many different opinions on a topic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by: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orking alone first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hen in pairs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Make a group of four or six people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Finally, the whole group discu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student interaction in lectur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’s role when using discussion</a:t>
            </a:r>
            <a:br>
              <a:rPr sz="2800"/>
            </a:b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1) Setting objectives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2) Structuring discussions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3) Setting up the room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4) Creating the proper climate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5) Stimulating participation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6) Guiding the discuss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techniques to introduce discussion into your lectures: </a:t>
            </a:r>
            <a:br>
              <a:rPr sz="28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Buzz Group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Round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Pyramids or “Snowball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00"/>
                </a:solidFill>
                <a:latin typeface="Arial"/>
              </a:rPr>
              <a:t>Interactive Classrooms</a:t>
            </a:r>
            <a:br>
              <a:rPr sz="3600"/>
            </a:br>
            <a:br>
              <a:rPr sz="2800"/>
            </a:b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Why add discussions to </a:t>
            </a:r>
            <a:br>
              <a:rPr sz="3600"/>
            </a:b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raditional lectures?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990000"/>
                </a:solidFill>
                <a:latin typeface="Arial"/>
              </a:rPr>
              <a:t>Interactive Classrooms</a:t>
            </a:r>
            <a:br>
              <a:rPr sz="3200"/>
            </a:br>
            <a:br>
              <a:rPr sz="2400"/>
            </a:b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Why add discussions to existing lectures?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- interaction improves students’ learning process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- compare their knowledge with each other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- may be more than one correct answer to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Objectives</a:t>
            </a: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ter today’s session, learners should be able to:</a:t>
            </a:r>
            <a:br>
              <a:rPr sz="2400"/>
            </a:b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cuss &amp; reflect upon how interaction might improve student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cribe at least one way to introduce discussion into a traditional lecture 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 a positive learning environment for instructors &amp; stud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2193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nstructor’s role when using discussion: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1) Setting objectives </a:t>
            </a:r>
            <a:br>
              <a:rPr sz="2200"/>
            </a:b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2) Structuring discussions </a:t>
            </a:r>
            <a:br>
              <a:rPr sz="2200"/>
            </a:b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3) Setting up the room </a:t>
            </a:r>
            <a:br>
              <a:rPr sz="2200"/>
            </a:b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4) Creating the proper climate </a:t>
            </a:r>
            <a:br>
              <a:rPr sz="2200"/>
            </a:b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5) Stimulating participation </a:t>
            </a:r>
            <a:br>
              <a:rPr sz="2200"/>
            </a:b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6) Guiding the discussion</a:t>
            </a:r>
            <a:br>
              <a:rPr sz="22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3 Techniques for starting discussions: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Buzz Group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Round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Pyram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12193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) Set objectives for each discussion</a:t>
            </a:r>
            <a:br>
              <a:rPr sz="26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br>
              <a:rPr sz="2400"/>
            </a:b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You might want your students to be able to: </a:t>
            </a:r>
            <a:br>
              <a:rPr sz="27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develop their negotiation or communication skil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late their discussions to a course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) Select appropriate forms of class discuss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or example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presen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lowed by group discussion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ad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udents followed by class discussions &amp; summary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) Set up room to encourage discussion</a:t>
            </a:r>
            <a:br>
              <a:rPr sz="2600"/>
            </a:b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ifferent room-settings affect student particip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ting in a circle allows everyone to see &amp; communicate with each other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 circulates among small groups to answer questions or clarify the ta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) Create a climate to facilitate discu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or 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ew topics &amp; introduce key term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ufficient time for discussion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ru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will students take turns speaking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Clarify the appropriate ways to interrupt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22:20:32Z</dcterms:created>
  <dc:creator>University of Calgary</dc:creator>
  <dc:description/>
  <dc:language>en-US</dc:language>
  <cp:lastModifiedBy>University of Calgary</cp:lastModifiedBy>
  <dcterms:modified xsi:type="dcterms:W3CDTF">2008-04-21T18:07:45Z</dcterms:modified>
  <cp:revision>479</cp:revision>
  <dc:subject/>
  <dc:title>Large Classes</dc:title>
</cp:coreProperties>
</file>